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370A-B09A-4417-9E5D-9BE01C42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6F2F-458C-4A97-9A88-F6A28AA8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BF9-5EB7-4850-B3D2-9FC3F38E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F9F-8439-4DB5-9A1A-8B49F08B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FBCD-C67C-47DA-AED2-4B428E61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A299-009F-4F79-9F84-F3736A71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172F-D002-4F10-A929-FDF60F6B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954-2EDA-4EE5-9268-B6D8C790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E43-28F8-49C7-83E3-C1D98BAE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A88F-F4BC-4CA6-BF6C-F74AC9A8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B15-8AAF-4113-A1C7-2B9D6D10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AC5-EEFA-4337-8A11-2A8EA36D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BEBB-63C5-4726-BA3F-B6638B97B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43828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ROCKS THAT FOR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FROM AN ACCUMULATION OF SEDIMENTS DERIVED FROM PREEXISTING ROCKS AND/OR ORGANIC MATERIAL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457200"/>
            <a:ext cx="5410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dimentary Rocks </a:t>
            </a:r>
            <a:endParaRPr b="0" lang="en-US" sz="2400" spc="1" strike="noStrike">
              <a:ln w="19080">
                <a:solidFill>
                  <a:srgbClr val="c0c0c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280" y="380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IS RESULTS IN A CRYSTALLINE MASS OF INTERGROWN MINERAL CRYS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14479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  <a:ea typeface="Times New Roman"/>
              </a:rPr>
              <a:t>Examples</a:t>
            </a: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657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LOST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FIZZES WHEN POW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4572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OCK SAL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SAME PROPERTIES OF HAL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5410080"/>
            <a:ext cx="91440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OCK GYPSU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SAME PROPERTIES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YPS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362320"/>
            <a:ext cx="8229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IMEST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COMPOSED PRIMARILY OF CALCITE; FIZZES WITH H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afec8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18288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FORM FROM THE REMAINS OF LIVING THINGS OR ROCKS CONTAINING FOSS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2767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LIMESTONES (FIZZES IN HCL)-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CONTAINS SHEL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4197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OAL (SOOTY)-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BURIAL OF DECAYED PLANTS; SWAM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562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SSILIFEROUS SH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SHALE CONTAINING FOSS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2767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920" y="380880"/>
            <a:ext cx="79912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rganic (Bioclastic) Sedimentary Rocks </a:t>
            </a:r>
            <a:endParaRPr b="0" lang="en-US" sz="2400" spc="1" strike="noStrike">
              <a:ln w="19080">
                <a:solidFill>
                  <a:srgbClr val="99cc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1066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STRATIFIC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67652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S THE ARRANGEMENT OF DIFFERENT VISIBLE LAYERS OF ROCK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WHEN THE TYPE OF SEDIMENTS FOUND IN AN AREA CHANGE, A NEW TYPE OF SEDIMENTARY ROCK FO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. GRAND CAN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55627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52480" y="228600"/>
            <a:ext cx="54104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dimentary Features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4_Fig1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556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fosslst" descr=""/>
          <p:cNvPicPr/>
          <p:nvPr/>
        </p:nvPicPr>
        <p:blipFill>
          <a:blip r:embed="rId1"/>
          <a:stretch/>
        </p:blipFill>
        <p:spPr>
          <a:xfrm>
            <a:off x="0" y="2819520"/>
            <a:ext cx="4876920" cy="2904840"/>
          </a:xfrm>
          <a:prstGeom prst="rect">
            <a:avLst/>
          </a:prstGeom>
          <a:ln w="0">
            <a:noFill/>
          </a:ln>
        </p:spPr>
      </p:pic>
      <p:pic>
        <p:nvPicPr>
          <p:cNvPr id="93" name="coquina" descr=""/>
          <p:cNvPicPr/>
          <p:nvPr/>
        </p:nvPicPr>
        <p:blipFill>
          <a:blip r:embed="rId2"/>
          <a:stretch/>
        </p:blipFill>
        <p:spPr>
          <a:xfrm>
            <a:off x="5105520" y="2514600"/>
            <a:ext cx="3886200" cy="3556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088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RE THE REMAINS, IMPRESSIONS, OR ANY OTHER EVIDENCE OF PLANTS AND ANIMALS PRESERVED IN R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04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FOSSI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191120" y="2286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RIPPLE MARKS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68580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RE FORMED BY THE ACTION OF WINDS, STREAMS, WAVES, AND CURRENTS ON SAND, AND FORM ON THE SURFACE OF BEDDING PLA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MUD CRACKS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52578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DEVELOP WHEN DEPOSITS OF WET CLAY DRY UP AND CONTRAC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b_mud_cracks_l" descr=""/>
          <p:cNvPicPr/>
          <p:nvPr/>
        </p:nvPicPr>
        <p:blipFill>
          <a:blip r:embed="rId1"/>
          <a:stretch/>
        </p:blipFill>
        <p:spPr>
          <a:xfrm>
            <a:off x="5257800" y="3200400"/>
            <a:ext cx="3306600" cy="3306600"/>
          </a:xfrm>
          <a:prstGeom prst="rect">
            <a:avLst/>
          </a:prstGeom>
          <a:ln w="0">
            <a:noFill/>
          </a:ln>
        </p:spPr>
      </p:pic>
      <p:pic>
        <p:nvPicPr>
          <p:cNvPr id="101" name="rapid-fossils-sea-sand-ripple-marks" descr=""/>
          <p:cNvPicPr/>
          <p:nvPr/>
        </p:nvPicPr>
        <p:blipFill>
          <a:blip r:embed="rId2"/>
          <a:srcRect l="-653" t="-614" r="0" b="8027"/>
          <a:stretch/>
        </p:blipFill>
        <p:spPr>
          <a:xfrm>
            <a:off x="152280" y="380880"/>
            <a:ext cx="4008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952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RE HOLLOW SPHERES IN WHICH GROUNDWATER HAS DEPOSITED MIN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09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GE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hoyas_big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7772400" cy="5181480"/>
          </a:xfrm>
          <a:prstGeom prst="rect">
            <a:avLst/>
          </a:prstGeom>
          <a:ln w="0">
            <a:noFill/>
          </a:ln>
        </p:spPr>
      </p:pic>
      <p:pic>
        <p:nvPicPr>
          <p:cNvPr id="105" name="Geodes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  <a:ea typeface="Times New Roman"/>
              </a:rPr>
              <a:t>THREE KINDS OF SEDIMENTARY ROC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2362320"/>
            <a:ext cx="31525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astic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81080" y="3809880"/>
            <a:ext cx="49532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emical (Crystalline) </a:t>
            </a:r>
            <a:endParaRPr b="0" lang="en-US" sz="2400" spc="1" strike="noStrike">
              <a:ln w="19080">
                <a:solidFill>
                  <a:srgbClr val="969696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81280" y="5410080"/>
            <a:ext cx="50292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333333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rganic (Bioclastic) </a:t>
            </a:r>
            <a:endParaRPr b="0" lang="en-US" sz="2400" spc="1" strike="noStrike">
              <a:ln w="19080">
                <a:solidFill>
                  <a:srgbClr val="333333"/>
                </a:solidFill>
                <a:miter/>
              </a:ln>
              <a:solidFill>
                <a:srgbClr val="8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9320" y="1523880"/>
            <a:ext cx="74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FORM FROM SOLID FRAGMENTS (SEDIMENTS) OF OTHER ROCKS.  EXAMPLES:  SHALE, SANDSTONE, CONGLOM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33526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EDIMENTS COME FROM THE WEATHERING OF EXISTING ROCKS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49528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-&gt;     -&gt;     -&gt;   -&gt;    -&gt;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mal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715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ULDERS, PEBBLES, SAND, SILT, C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520" y="4876920"/>
            <a:ext cx="1352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808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rgest</a:t>
            </a:r>
            <a:endParaRPr b="0" lang="en-US" sz="2400" spc="1" strike="noStrike">
              <a:ln w="19080">
                <a:solidFill>
                  <a:srgbClr val="80808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304920"/>
            <a:ext cx="72388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ASTIC SEDIMENTARY ROCK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4419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167652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FRAGMENTS ARE MOVED MOSTLY BY RUNNING WATER. WINDS, WAVES, AND GLACIERS ALSO MOVE PARTICLES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33526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FARTHER A PARTICLE TRAVELS THE ROUNDER IT BECOM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464832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ROCK FRAGMENTS SEPARATE THROUGH HORIZONTAL AND VERTICAL SORT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380880"/>
            <a:ext cx="8458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ansportation and Sorting of Sediments</a:t>
            </a:r>
            <a:endParaRPr b="0" lang="en-US" sz="2400" spc="1" strike="noStrike">
              <a:ln w="19080">
                <a:solidFill>
                  <a:srgbClr val="c0c0c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gradedbedding" descr=""/>
          <p:cNvPicPr/>
          <p:nvPr/>
        </p:nvPicPr>
        <p:blipFill>
          <a:blip r:embed="rId2"/>
          <a:srcRect l="0" t="30597" r="10600" b="0"/>
          <a:stretch/>
        </p:blipFill>
        <p:spPr>
          <a:xfrm>
            <a:off x="533520" y="4419720"/>
            <a:ext cx="297180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hsort" descr=""/>
          <p:cNvPicPr/>
          <p:nvPr/>
        </p:nvPicPr>
        <p:blipFill>
          <a:blip r:embed="rId3"/>
          <a:stretch/>
        </p:blipFill>
        <p:spPr>
          <a:xfrm>
            <a:off x="609480" y="4343400"/>
            <a:ext cx="3024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0574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S THE COMPACTION AND CEMENTATION OF ROCK FRAGMENTS THAT FORM SEDIMENTARY ROCKS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6015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962520"/>
            <a:ext cx="59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THE LARGER THE SEDIMENTS IN THE ROCK THE MORE PERMEABLE (ABILITY TO LET WATER PASS THROUGH) THE R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23880" y="380880"/>
            <a:ext cx="6172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Lithificati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990720"/>
            <a:ext cx="7772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GLOMERAT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IS A MIXTURE OF LARG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ROUNDED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PEBBLES CEMENTED TOGETHER BY SMALLER SEDI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590920"/>
            <a:ext cx="6705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BRECCIA HAS ANGULAR FRAGMENT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89109_02sm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3733560" cy="2801880"/>
          </a:xfrm>
          <a:prstGeom prst="rect">
            <a:avLst/>
          </a:prstGeom>
          <a:ln w="0">
            <a:noFill/>
          </a:ln>
        </p:spPr>
      </p:pic>
      <p:pic>
        <p:nvPicPr>
          <p:cNvPr id="67" name="breccia" descr=""/>
          <p:cNvPicPr/>
          <p:nvPr/>
        </p:nvPicPr>
        <p:blipFill>
          <a:blip r:embed="rId3"/>
          <a:srcRect l="0" t="14257" r="30925" b="5399"/>
          <a:stretch/>
        </p:blipFill>
        <p:spPr>
          <a:xfrm>
            <a:off x="5029200" y="3873600"/>
            <a:ext cx="373392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d4aa"/>
            </a:gs>
            <a:gs pos="100000">
              <a:srgbClr val="33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andstone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4094280" cy="280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1371600"/>
            <a:ext cx="8077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NDSTONES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RE MADE LARGELY OF QUARTZ GRAINS. (PERMEABL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b0d7b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hale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5623200" cy="4435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380880"/>
            <a:ext cx="7620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AL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FORMS FROM THE COMPACTION OF TINY FLAKES OF CLAY. (IMPERMEABL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00"/>
            </a:gs>
            <a:gs pos="100000">
              <a:srgbClr val="fecba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373392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MAIN CAUSE FOR DISSOLVED MINERALS TO PRECIPITATE, OR DROP OUT OF THE WATER, IS EVAPORATION. (SHALLOW SEA ENVIRONMEN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0574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 FROM THE PRECIPITATION OF MINERALS OUT OF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533520"/>
            <a:ext cx="8010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emical (Crystalline) Sedimentary Rocks </a:t>
            </a:r>
            <a:endParaRPr b="0" lang="en-US" sz="2400" spc="1" strike="noStrike">
              <a:ln w="19080">
                <a:solidFill>
                  <a:srgbClr val="969696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04:15:05Z</dcterms:created>
  <dc:creator>Joseph Felipe</dc:creator>
  <dc:description/>
  <dc:language>en-US</dc:language>
  <cp:lastModifiedBy>Lakeland School District</cp:lastModifiedBy>
  <dcterms:modified xsi:type="dcterms:W3CDTF">2004-12-01T13:58:05Z</dcterms:modified>
  <cp:revision>5</cp:revision>
  <dc:subject/>
  <dc:title>PowerPoint Presentation</dc:title>
</cp:coreProperties>
</file>